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5.png" ContentType="image/png"/>
  <Override PartName="/ppt/media/image29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wmf" ContentType="image/x-wmf"/>
  <Override PartName="/ppt/media/image20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8.jpeg" ContentType="image/jpeg"/>
  <Override PartName="/ppt/media/image26.jpeg" ContentType="image/jpeg"/>
  <Override PartName="/ppt/media/image24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5.jpeg" ContentType="image/jpeg"/>
  <Override PartName="/ppt/media/image1.wmf" ContentType="image/x-wmf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4425-5B26-4625-823E-FCC4B815C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EA91-BE85-44D4-9EED-D8F6DB9C2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608A-FE64-49CF-82D5-C64EA5230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F961-89A4-4B3A-8325-F132F2249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784A4-AAAB-4380-8803-4DB50C52D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FC51D-69A1-4509-AA78-61408E62C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EE168-1CD0-4F0F-8CDC-FC165BD39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508C8-F7C1-4294-9FD5-9CD0DC127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5A2C9-181F-4783-8AF1-4CF74CC0F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92679-8541-498C-81D2-C840EAB20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5AB7F-1785-4478-A3EE-CF862CE56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EA6B-7662-4916-A23B-E55B6F1B1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A46F5-FD40-4FC1-A086-A11551E4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6F3B5-A89A-497C-B0F5-F1D84C62B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C6E33-559F-4BFC-9F64-BCD81B9B1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F7B3E-87AE-4DCF-9A69-5F8B48B43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B1DE2-ABDA-455C-9CE7-D5171E4FB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FCC9-658D-42CA-A05B-971916248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0D47-5321-4E44-869C-6856C9AC5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5EDC-01F0-4724-A72A-7E94F6812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77B8-2317-4D76-954F-EB9278387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9D90-728E-4BEC-B5F8-8714F7F69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80A7-9312-4373-A109-A18181D85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2645-732E-4457-ABDE-5DDC1769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52919-DC3A-4320-B3FE-6B5F1D7961C1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4B770-D3B0-42B7-820E-B90B970C4C72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7c41f3"/>
                </a:solidFill>
                <a:latin typeface="Curlz MT"/>
              </a:rPr>
              <a:t>Las</a:t>
            </a:r>
            <a:r>
              <a:rPr b="1" lang="en-US" sz="3600" spc="-1" strike="noStrike">
                <a:solidFill>
                  <a:srgbClr val="7c41f3"/>
                </a:solidFill>
                <a:latin typeface="Curlz MT"/>
              </a:rPr>
              <a:t> </a:t>
            </a:r>
            <a:r>
              <a:rPr b="1" lang="en-US" sz="8000" spc="-1" strike="noStrike">
                <a:solidFill>
                  <a:srgbClr val="7c41f3"/>
                </a:solidFill>
                <a:latin typeface="Curlz MT"/>
              </a:rPr>
              <a:t>Comidas</a:t>
            </a:r>
            <a:endParaRPr b="0" lang="en-US" sz="8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14400" y="1676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Papyrus"/>
              </a:rPr>
              <a:t>Por Madeline</a:t>
            </a: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Papyrus"/>
              </a:rPr>
              <a:t>Robertson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228600" y="4876920"/>
            <a:ext cx="1143000" cy="1726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Para el </a:t>
            </a:r>
            <a:r>
              <a:rPr b="0" lang="es-ES" sz="3600" spc="-1" strike="noStrike">
                <a:solidFill>
                  <a:srgbClr val="2f1311"/>
                </a:solidFill>
                <a:latin typeface="Arial"/>
              </a:rPr>
              <a:t>desayuno, me gusta comer...</a:t>
            </a:r>
            <a:r>
              <a:rPr b="0" lang="es-ES" sz="36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2743200" y="2438280"/>
            <a:ext cx="2124000" cy="2152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4952880" y="1143000"/>
            <a:ext cx="2562480" cy="1790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5105520" y="380988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5105520" y="312408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Los panqueque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743200" y="495288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Un Chocolate calient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181480" y="61722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f1311"/>
                </a:solidFill>
                <a:latin typeface="Arial"/>
              </a:rPr>
              <a:t>cantalupo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5"/>
          <a:stretch/>
        </p:blipFill>
        <p:spPr>
          <a:xfrm>
            <a:off x="152280" y="1371600"/>
            <a:ext cx="2505240" cy="18288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6"/>
          <a:stretch/>
        </p:blipFill>
        <p:spPr>
          <a:xfrm>
            <a:off x="228600" y="4038480"/>
            <a:ext cx="2257560" cy="20289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04920" y="34290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Las fresa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" y="62485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Una manzana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35ff"/>
            </a:gs>
            <a:gs pos="100000">
              <a:srgbClr val="7c41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533520" y="457200"/>
            <a:ext cx="6705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6094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1311"/>
                </a:solidFill>
                <a:latin typeface="Arial"/>
              </a:rPr>
              <a:t>Para el almuerzo, me gusta comer…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2047680" cy="204804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380880" y="3962520"/>
            <a:ext cx="2362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04920" y="396252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f1311"/>
                </a:solidFill>
                <a:latin typeface="Arial"/>
              </a:rPr>
              <a:t>un sándwich de mantequilla de maní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4800600" y="1523880"/>
            <a:ext cx="2428920" cy="1886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4952880" y="42670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838080" y="4876920"/>
            <a:ext cx="1006560" cy="13716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4648320" y="365760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Goldfish</a:t>
            </a:r>
            <a:r>
              <a:rPr b="1" lang="en-US" sz="1800" spc="-1" strike="noStrike">
                <a:solidFill>
                  <a:srgbClr val="2f1311"/>
                </a:solidFill>
                <a:latin typeface="Arial"/>
                <a:ea typeface="Arial"/>
              </a:rPr>
              <a:t>©</a:t>
            </a: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 petardo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04920" y="62485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Yogur de fresa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724280" y="62485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Una ensalada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3638520" y="2205000"/>
            <a:ext cx="1866960" cy="2448000"/>
            <a:chOff x="3638520" y="2205000"/>
            <a:chExt cx="1866960" cy="2448000"/>
          </a:xfrm>
        </p:grpSpPr>
        <p:sp>
          <p:nvSpPr>
            <p:cNvPr id="217" name=""/>
            <p:cNvSpPr txBox="1"/>
            <p:nvPr/>
          </p:nvSpPr>
          <p:spPr>
            <a:xfrm>
              <a:off x="3638520" y="2205000"/>
              <a:ext cx="1866960" cy="244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pic>
        <p:nvPicPr>
          <p:cNvPr id="218" name="" descr=""/>
          <p:cNvPicPr/>
          <p:nvPr/>
        </p:nvPicPr>
        <p:blipFill>
          <a:blip r:embed="rId5"/>
          <a:stretch/>
        </p:blipFill>
        <p:spPr>
          <a:xfrm>
            <a:off x="2590920" y="2362320"/>
            <a:ext cx="1847880" cy="24667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2666880" y="50292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El agua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52280" y="45720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f1311"/>
                </a:solidFill>
                <a:latin typeface="Arial"/>
              </a:rPr>
              <a:t>Para la cena, me gusta comer…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3314880" y="2519280"/>
            <a:ext cx="2514600" cy="1819440"/>
            <a:chOff x="3314880" y="2519280"/>
            <a:chExt cx="2514600" cy="1819440"/>
          </a:xfrm>
        </p:grpSpPr>
        <p:sp>
          <p:nvSpPr>
            <p:cNvPr id="222" name=""/>
            <p:cNvSpPr txBox="1"/>
            <p:nvPr/>
          </p:nvSpPr>
          <p:spPr>
            <a:xfrm>
              <a:off x="3314880" y="2519280"/>
              <a:ext cx="2514600" cy="1819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4876920" y="1905120"/>
            <a:ext cx="2238120" cy="16761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52280" y="1828800"/>
            <a:ext cx="2857680" cy="1600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52280" y="35812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f1311"/>
                </a:solidFill>
                <a:latin typeface="Arial"/>
              </a:rPr>
              <a:t>El maíz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800600" y="37339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La pizza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3048120" y="1981080"/>
            <a:ext cx="1676160" cy="22384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3048120" y="44197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Un lech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4"/>
          <a:stretch/>
        </p:blipFill>
        <p:spPr>
          <a:xfrm>
            <a:off x="4648320" y="4343400"/>
            <a:ext cx="2619360" cy="17524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4800600" y="62485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f1311"/>
                </a:solidFill>
                <a:latin typeface="Arial"/>
              </a:rPr>
              <a:t>Los pepino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304920" y="3962520"/>
            <a:ext cx="2466720" cy="184788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04920" y="59436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Los </a:t>
            </a:r>
            <a:r>
              <a:rPr b="1" lang="es-ES" sz="1800" spc="-1" strike="noStrike">
                <a:solidFill>
                  <a:srgbClr val="2f1311"/>
                </a:solidFill>
                <a:latin typeface="Arial"/>
              </a:rPr>
              <a:t>macarrones con queso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457200" y="22860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1311"/>
                </a:solidFill>
                <a:latin typeface="Arial"/>
              </a:rPr>
              <a:t>Para el postre, me gusta comer…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614760" y="2233440"/>
            <a:ext cx="1914480" cy="2391120"/>
            <a:chOff x="3614760" y="2233440"/>
            <a:chExt cx="1914480" cy="2391120"/>
          </a:xfrm>
        </p:grpSpPr>
        <p:sp>
          <p:nvSpPr>
            <p:cNvPr id="235" name=""/>
            <p:cNvSpPr txBox="1"/>
            <p:nvPr/>
          </p:nvSpPr>
          <p:spPr>
            <a:xfrm>
              <a:off x="3614760" y="2233440"/>
              <a:ext cx="1914480" cy="2391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609480" y="1523880"/>
            <a:ext cx="1784520" cy="20574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2819520" y="2133720"/>
            <a:ext cx="1847880" cy="247644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4"/>
          <a:stretch/>
        </p:blipFill>
        <p:spPr>
          <a:xfrm>
            <a:off x="5257800" y="1219320"/>
            <a:ext cx="1857240" cy="246672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5"/>
          <a:stretch/>
        </p:blipFill>
        <p:spPr>
          <a:xfrm>
            <a:off x="5105520" y="403848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6"/>
          <a:stretch/>
        </p:blipFill>
        <p:spPr>
          <a:xfrm>
            <a:off x="228600" y="4419720"/>
            <a:ext cx="2362320" cy="14713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304920" y="36576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La magdalena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952880" y="37339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bcac7"/>
                </a:solidFill>
                <a:latin typeface="Arial"/>
              </a:rPr>
              <a:t>El helado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105520" y="62485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7d47d"/>
                </a:solidFill>
                <a:latin typeface="Arial"/>
              </a:rPr>
              <a:t>Las galleta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895480" y="480060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6f8c5"/>
                </a:solidFill>
                <a:latin typeface="Arial"/>
              </a:rPr>
              <a:t>El </a:t>
            </a:r>
            <a:r>
              <a:rPr b="1" lang="es-ES" sz="1800" spc="-1" strike="noStrike">
                <a:solidFill>
                  <a:srgbClr val="a6f8c5"/>
                </a:solidFill>
                <a:latin typeface="Arial"/>
              </a:rPr>
              <a:t>batido de lech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601992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9b0fe"/>
                </a:solidFill>
                <a:latin typeface="Arial"/>
              </a:rPr>
              <a:t>brownie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15:09:58Z</dcterms:created>
  <dc:creator>robertsonmad</dc:creator>
  <dc:description/>
  <dc:language>en-US</dc:language>
  <cp:lastModifiedBy>robertsonmad</cp:lastModifiedBy>
  <dcterms:modified xsi:type="dcterms:W3CDTF">2011-04-14T14:45:25Z</dcterms:modified>
  <cp:revision>4</cp:revision>
  <dc:subject/>
  <dc:title>Las Comidas</dc:title>
</cp:coreProperties>
</file>